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B2C-1E6F-4430-9431-985E1FE8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39B-CDCC-4320-BB3E-36719604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5AC-555F-4BC9-A48B-C6511839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247-6420-4D73-8F7E-F1022BA0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1EA-A2C7-4898-8ACD-4DBC7771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F53-F7CC-43C4-8523-0E9D6280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7B0-DD8D-4BE6-AF40-A4D637E2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DE5-2098-4441-8669-0941E98F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C28-3B28-48F1-B1AB-C422A6EF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055-FA26-4F6F-94D5-0BFC478B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7B7-6E12-4D01-A169-129DD4F3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677-E5AC-4678-9ED5-01B33C37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97D1A-BAB0-4119-8068-BACCA3856F44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152280" y="3498840"/>
            <a:ext cx="2840040" cy="201600"/>
            <a:chOff x="152280" y="3498840"/>
            <a:chExt cx="2840040" cy="201600"/>
          </a:xfrm>
        </p:grpSpPr>
        <p:pic>
          <p:nvPicPr>
            <p:cNvPr id="44" name="Imagen 6" descr=""/>
            <p:cNvPicPr/>
            <p:nvPr/>
          </p:nvPicPr>
          <p:blipFill>
            <a:blip r:embed="rId2"/>
            <a:stretch/>
          </p:blipFill>
          <p:spPr>
            <a:xfrm>
              <a:off x="2291040" y="3562920"/>
              <a:ext cx="701280" cy="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3498840"/>
              <a:ext cx="2061360" cy="20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6-11T12:07:40Z</dcterms:modified>
  <cp:revision>7</cp:revision>
  <dc:subject/>
  <dc:title>PowerPoint Presentation</dc:title>
</cp:coreProperties>
</file>